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2E4B90-0FF5-42DF-A3F3-F3082FDF9F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EDBD4E-CC14-462B-9528-3F4FCC4375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7E3DAC-48EF-4928-89CF-40F4EB3FF1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1242E2-AC94-43D6-BBE6-F507583479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0B2358-1492-4F86-983A-093FC8DEA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091BC7-BF62-4A44-9836-34788825B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E28DFA-00D8-45E9-BA73-60E7518B4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E85642-BFFA-4563-A169-EA7A57C08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170F5B-1E45-4F4A-98D4-538B8773E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533520" y="2286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F7B85D-491C-48FD-A5B8-69A845BA4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5FB53A-CA13-4D61-ACED-A87CDBBD6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A962EC-A9DC-41C9-840B-BB8815D8EA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B791A8-5598-41F5-A113-8A5A03B76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01AFD7-8770-4961-839E-B2A2C4CFE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9EF25D-3B0E-4351-A3D8-A897CB9CE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E7557B-5F29-4EF2-A609-E24B02BFD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2AF07C-58B7-4EDC-B69A-649F0DFF9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C95805-FAA1-4ACB-BE2D-A51B732B0C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1A086F-0C56-4115-85F8-90E4E7486F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667C8E-E08E-4F58-9E34-A9A208745D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33520" y="2286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F53237-0A9B-43F7-8644-CED3A17360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9872F6-9FC4-489A-871D-29210E5F93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F12F88-6134-4D9A-BDC7-23146FACB0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B36B5B-9ABF-4202-ABAE-DE093FFAA9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520" y="6172200"/>
            <a:ext cx="4953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029A3-4B52-43C9-AA46-A570487F0D8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ACFB5-83B2-495E-A7C6-59B3113DCFA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9520" y="1904760"/>
            <a:ext cx="487692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Quality Manual Structure and Cont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" name="Picture 11" descr="HHS-Logo-blue"/>
          <p:cNvPicPr/>
          <p:nvPr/>
        </p:nvPicPr>
        <p:blipFill>
          <a:blip r:embed="rId1"/>
          <a:stretch/>
        </p:blipFill>
        <p:spPr>
          <a:xfrm>
            <a:off x="41148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" descr="2BSLATH"/>
          <p:cNvPicPr/>
          <p:nvPr/>
        </p:nvPicPr>
        <p:blipFill>
          <a:blip r:embed="rId2"/>
          <a:stretch/>
        </p:blipFill>
        <p:spPr>
          <a:xfrm>
            <a:off x="4876920" y="6172200"/>
            <a:ext cx="761760" cy="5493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6" descr="WHO-EN-C-H"/>
          <p:cNvPicPr/>
          <p:nvPr/>
        </p:nvPicPr>
        <p:blipFill>
          <a:blip r:embed="rId3"/>
          <a:stretch/>
        </p:blipFill>
        <p:spPr>
          <a:xfrm>
            <a:off x="5715000" y="6172200"/>
            <a:ext cx="1828800" cy="560520"/>
          </a:xfrm>
          <a:prstGeom prst="rect">
            <a:avLst/>
          </a:prstGeom>
          <a:ln w="0">
            <a:noFill/>
          </a:ln>
        </p:spPr>
      </p:pic>
      <p:grpSp>
        <p:nvGrpSpPr>
          <p:cNvPr id="108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09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1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2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2" name=""/>
          <p:cNvSpPr/>
          <p:nvPr/>
        </p:nvSpPr>
        <p:spPr>
          <a:xfrm>
            <a:off x="3581280" y="1828800"/>
            <a:ext cx="495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Visual Ai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FE9213-3D16-4990-B4A4-9CA89891C36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93840" y="946080"/>
            <a:ext cx="8356320" cy="4965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1AA5AA-FC80-4642-977F-C0026A2ED30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03040" y="546120"/>
            <a:ext cx="8737920" cy="5765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05E9C8-A912-4627-8CE2-47C8891DBCD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90440" y="635040"/>
            <a:ext cx="8763120" cy="5587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3146D4-5583-4CA1-B948-F7DA65F3E0B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38240" y="550800"/>
            <a:ext cx="8866080" cy="5754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CB1EA5-4896-4E81-997E-F71E7BFBE85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209680" y="457200"/>
            <a:ext cx="4459320" cy="5838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6B75FF-05BF-43F9-B7D6-34E6AB00D6C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438280" y="457200"/>
            <a:ext cx="4232520" cy="5486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206FF5-F52E-4E10-84DA-DF83186FC85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2T22:26:15Z</dcterms:created>
  <dc:creator>Robin Barteluk</dc:creator>
  <dc:description/>
  <dc:language>en-US</dc:language>
  <cp:lastModifiedBy>bergera</cp:lastModifiedBy>
  <dcterms:modified xsi:type="dcterms:W3CDTF">2009-05-19T09:59:36Z</dcterms:modified>
  <cp:revision>2</cp:revision>
  <dc:subject/>
  <dc:title>Quality Manual Structure and Contents</dc:title>
</cp:coreProperties>
</file>